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6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6.png" ContentType="image/png"/>
  <Override PartName="/ppt/media/image39.png" ContentType="image/png"/>
  <Override PartName="/ppt/media/image31.png" ContentType="image/png"/>
  <Override PartName="/ppt/media/image43.png" ContentType="image/png"/>
  <Override PartName="/ppt/media/image35.png" ContentType="image/png"/>
  <Override PartName="/ppt/media/image5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1EB-EF02-4AE2-89A9-4725C5E3D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758F-92A3-47CA-9B35-9E8AC83E3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15E-F9B2-4372-B24C-8660BCB76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3D7C-ECE5-44A1-9562-44BA129C6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3B51-9AFE-4196-BBD9-64AC88BC5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71E1-6A87-4EEA-A69F-F08D36C65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F65-8CE5-4674-86BD-DEFAB09EE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2BB2-625D-49D4-95CA-9C65DD0FA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15FA-A3D6-4D66-AA5D-F808BE30C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1D1E-1053-4665-BA5A-4B773FAC5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67F9-A666-4C35-9291-E3DFFD489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4FCF-E565-472F-9FDC-3229D3567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3F6A-788A-41C5-A5BB-0E05308D2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A428-8DA9-47FC-9CA2-A5925AFA3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8CC5-C882-420D-957D-75777F94D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33D-0501-48F1-9D7D-CAB5BA055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F91D-1377-489A-8789-D8DCB6321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2AF3-5E33-42A5-9C16-47DA4C522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06E5-E7AF-430C-9A46-C29898FA7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0DA6-348D-4223-B673-513A341E0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5D4E-D2CB-4995-81A8-913A76619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9C53-5109-4F70-B0D7-63749E6AB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2A63-179C-4D7E-819E-AFF6C3566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E2CE-5673-4918-B2AA-80DBF8C29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6908-CD25-4AA1-913B-0E9BDAD9C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0C46-1DF3-439C-A0FF-16E225CCC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2985-412F-4022-80A3-F65C16430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47F6-18DC-44FD-B5DC-35168B0A0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5C43-5742-4D0A-9A55-BE1500BCD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6020-EB7A-480F-83A8-BDE0E13F9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5464-82F1-481C-B7DB-442D427FF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2F12-011D-4EEE-B64A-FA4BE3D5F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45CD-9F50-4534-80DB-11E3959EB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C4B1-D0E7-48E4-8154-2880F6E8A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5C8B-4D74-45D6-90F4-AE3B7C4AF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EDB9-07CE-4184-9F87-FAB484A53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BADC-ADF1-415C-9A50-BE68BDD5F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C85D-E523-4483-AF6E-EEE904050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A7D2-D511-4944-8CF8-A6AC1B96B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B54C-A027-470C-B2A5-D25AF0666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C644-9264-4B1E-89F9-7F5059E59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CD91-EC9E-4F7A-A1B5-1B332606D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7504-D649-4D5D-8429-D84705DDD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87E3-D9BF-473C-AEFF-DC77E9ECC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1E46-A657-4E96-9D3E-5B942C46B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B6F0-3678-4778-BA6F-E898F0626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2E53-6BD0-40DB-9AFE-75F672C93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91D1-DE3B-410F-9A27-2EEA199F8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630A-7C3B-4EEB-B587-AFC0555C9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D698-041E-463E-95D6-64953F028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C13D-0B8E-4547-B921-553D4C652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FE12-B1FF-4237-8638-7EDC8B2A8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656F-2B61-4CB9-921D-F41FD6DA6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1B7-C533-448F-8150-CBDDB63C8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C535-1B3C-4F95-A63B-7B91CF980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2439-87C6-4269-B6D1-D25C6837B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27AC-E229-491F-A0DC-4F016D35C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8FA-5753-4BDC-9E44-F8E8D259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DF5-2247-4206-A895-C9396B7E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F42-63A8-46E7-8508-041365BF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0CB-5AD1-4818-B5F9-1CC35C3C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F26-C0A4-40CD-8985-C58817A1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E4E-C4D1-4787-855C-E195620B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446-9EAC-4B78-93D6-D0F940FA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C94-251C-4D6E-B7B1-E3AFD947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6EB-7FDB-4E21-A86B-767B82B2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3D2-DF5D-4942-9A08-D7B9EB1A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8DA-05EB-4999-BCE9-039C3B9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7A7-6544-431A-8347-03709537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91A0-3736-46A7-8A58-582D5EBC3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italywinsworldcup.jpg"/>
          <p:cNvPicPr/>
          <p:nvPr/>
        </p:nvPicPr>
        <p:blipFill>
          <a:blip r:embed="rId1"/>
          <a:stretch/>
        </p:blipFill>
        <p:spPr>
          <a:xfrm>
            <a:off x="380880" y="1295280"/>
            <a:ext cx="386244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usseinsentenced.bmp"/>
          <p:cNvPicPr/>
          <p:nvPr/>
        </p:nvPicPr>
        <p:blipFill>
          <a:blip r:embed="rId2"/>
          <a:stretch/>
        </p:blipFill>
        <p:spPr>
          <a:xfrm>
            <a:off x="4419720" y="1828800"/>
            <a:ext cx="432756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ckinass.bmp"/>
          <p:cNvPicPr/>
          <p:nvPr/>
        </p:nvPicPr>
        <p:blipFill>
          <a:blip r:embed="rId3"/>
          <a:stretch/>
        </p:blipFill>
        <p:spPr>
          <a:xfrm>
            <a:off x="1143000" y="3809880"/>
            <a:ext cx="32511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ular Culture Celebrates Returning Her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bestyears.jpg"/>
          <p:cNvPicPr/>
          <p:nvPr/>
        </p:nvPicPr>
        <p:blipFill>
          <a:blip r:embed="rId1"/>
          <a:stretch/>
        </p:blipFill>
        <p:spPr>
          <a:xfrm>
            <a:off x="914400" y="175248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bestyears2.jpg"/>
          <p:cNvPicPr/>
          <p:nvPr/>
        </p:nvPicPr>
        <p:blipFill>
          <a:blip r:embed="rId2"/>
          <a:stretch/>
        </p:blipFill>
        <p:spPr>
          <a:xfrm>
            <a:off x="1371600" y="3733920"/>
            <a:ext cx="171468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wonderfullife.bmp"/>
          <p:cNvPicPr/>
          <p:nvPr/>
        </p:nvPicPr>
        <p:blipFill>
          <a:blip r:embed="rId3"/>
          <a:stretch/>
        </p:blipFill>
        <p:spPr>
          <a:xfrm>
            <a:off x="6934320" y="1752480"/>
            <a:ext cx="1704960" cy="252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arrybailey.bmp"/>
          <p:cNvPicPr/>
          <p:nvPr/>
        </p:nvPicPr>
        <p:blipFill>
          <a:blip r:embed="rId4"/>
          <a:stretch/>
        </p:blipFill>
        <p:spPr>
          <a:xfrm>
            <a:off x="4038480" y="1676520"/>
            <a:ext cx="2552760" cy="2760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3352680" y="4572000"/>
            <a:ext cx="5410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of the top contenders for Best Picture at the 1946 Academy Awards prominently feature returning veter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est Years of Our Lives” edges out “It’s A Wonderful Life” for Best Pi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’s A Wonderful Life” remains one of the most beloved movies of all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Refr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major domestic challenge of the decade leading up to World War I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he Great Depress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’s exuberance at the end of the war is tempered by fears that America will slide back into a depression after the war.  The Federal government interven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.I. Bill Provides Returning Soldier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ey to attend college or trade scho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0 a week of unemployment for up to 52 wee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vernment backed guaranteed home lo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the G.I. B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ge boom in new home construction as millions of veterans take advantage of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of this growth takes place outside of older, established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y do you think that returning veterans would choose to live in suburbs instead of citi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sons for the Growth of the Subur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s increasingly desired “a place of their own” with more space and fewer neighbors packed closely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t up demand from the Great Depression.  Americans had gone without new things for so long that demand for goods and services explodes after the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of Cars on the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945: 26 mill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960: 60 mill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hevy.jpg"/>
          <p:cNvPicPr/>
          <p:nvPr/>
        </p:nvPicPr>
        <p:blipFill>
          <a:blip r:embed="rId1"/>
          <a:stretch/>
        </p:blipFill>
        <p:spPr>
          <a:xfrm>
            <a:off x="1143000" y="3962520"/>
            <a:ext cx="2971800" cy="223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hevy2.jpg"/>
          <p:cNvPicPr/>
          <p:nvPr/>
        </p:nvPicPr>
        <p:blipFill>
          <a:blip r:embed="rId2"/>
          <a:stretch/>
        </p:blipFill>
        <p:spPr>
          <a:xfrm>
            <a:off x="5181480" y="3909960"/>
            <a:ext cx="30607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wth of the Subu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ustrated by his inability to find a reasonably priced place to stay in Washington D.C., homebuilder Kemmons Wilson decides to open a chain of hotels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holiday inn.jpg"/>
          <p:cNvPicPr/>
          <p:nvPr/>
        </p:nvPicPr>
        <p:blipFill>
          <a:blip r:embed="rId1"/>
          <a:stretch/>
        </p:blipFill>
        <p:spPr>
          <a:xfrm>
            <a:off x="2590920" y="4267080"/>
            <a:ext cx="38289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anchise Busi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1950’s saw an explosion of chain-store businessess.  Many of these new businesses we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anch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anchis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siness where goods or services are distributed through outlets owned by individual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anchise Busin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firstmcdonalds.bmp"/>
          <p:cNvPicPr/>
          <p:nvPr/>
        </p:nvPicPr>
        <p:blipFill>
          <a:blip r:embed="rId1"/>
          <a:stretch/>
        </p:blipFill>
        <p:spPr>
          <a:xfrm>
            <a:off x="304920" y="1219320"/>
            <a:ext cx="4167000" cy="3278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oldtacobell.jpg"/>
          <p:cNvPicPr/>
          <p:nvPr/>
        </p:nvPicPr>
        <p:blipFill>
          <a:blip r:embed="rId2"/>
          <a:stretch/>
        </p:blipFill>
        <p:spPr>
          <a:xfrm>
            <a:off x="4495680" y="266688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idential Surviv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mitt.jpg"/>
          <p:cNvPicPr/>
          <p:nvPr/>
        </p:nvPicPr>
        <p:blipFill>
          <a:blip r:embed="rId1"/>
          <a:stretch/>
        </p:blipFill>
        <p:spPr>
          <a:xfrm>
            <a:off x="533520" y="1371600"/>
            <a:ext cx="2057400" cy="253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newt.jpg"/>
          <p:cNvPicPr/>
          <p:nvPr/>
        </p:nvPicPr>
        <p:blipFill>
          <a:blip r:embed="rId2"/>
          <a:stretch/>
        </p:blipFill>
        <p:spPr>
          <a:xfrm>
            <a:off x="6248520" y="15238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antorum.jpg"/>
          <p:cNvPicPr/>
          <p:nvPr/>
        </p:nvPicPr>
        <p:blipFill>
          <a:blip r:embed="rId3"/>
          <a:stretch/>
        </p:blipFill>
        <p:spPr>
          <a:xfrm>
            <a:off x="685800" y="4038480"/>
            <a:ext cx="205740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aul.jpg"/>
          <p:cNvPicPr/>
          <p:nvPr/>
        </p:nvPicPr>
        <p:blipFill>
          <a:blip r:embed="rId4"/>
          <a:stretch/>
        </p:blipFill>
        <p:spPr>
          <a:xfrm>
            <a:off x="6172200" y="420516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gop.jpg"/>
          <p:cNvPicPr/>
          <p:nvPr/>
        </p:nvPicPr>
        <p:blipFill>
          <a:blip r:embed="rId5"/>
          <a:stretch/>
        </p:blipFill>
        <p:spPr>
          <a:xfrm>
            <a:off x="3352680" y="4343400"/>
            <a:ext cx="2295720" cy="1990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survivor.jpg"/>
          <p:cNvPicPr/>
          <p:nvPr/>
        </p:nvPicPr>
        <p:blipFill>
          <a:blip r:embed="rId6"/>
          <a:stretch/>
        </p:blipFill>
        <p:spPr>
          <a:xfrm>
            <a:off x="2819520" y="1676520"/>
            <a:ext cx="32083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h&amp;k white castle.jpg"/>
          <p:cNvPicPr/>
          <p:nvPr/>
        </p:nvPicPr>
        <p:blipFill>
          <a:blip r:embed="rId1"/>
          <a:stretch/>
        </p:blipFill>
        <p:spPr>
          <a:xfrm>
            <a:off x="1295280" y="533520"/>
            <a:ext cx="648360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sons for the Growth of the Subur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ical advances in construction allowed builders to mass produce suburban housing cheaply using the same floor plan and specialized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es that used to take months to build could now be built in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ve starved couples, separated by war, were finally reunited.  This led to 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by Boo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3" descr="babyboom2.jpg"/>
          <p:cNvPicPr/>
          <p:nvPr/>
        </p:nvPicPr>
        <p:blipFill>
          <a:blip r:embed="rId1"/>
          <a:stretch/>
        </p:blipFill>
        <p:spPr>
          <a:xfrm>
            <a:off x="228600" y="1371600"/>
            <a:ext cx="4429080" cy="26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babyboom.bmp"/>
          <p:cNvPicPr/>
          <p:nvPr/>
        </p:nvPicPr>
        <p:blipFill>
          <a:blip r:embed="rId2"/>
          <a:stretch/>
        </p:blipFill>
        <p:spPr>
          <a:xfrm>
            <a:off x="4648320" y="1295280"/>
            <a:ext cx="4379760" cy="2806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304920" y="41911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1945 and 1960, the U.S. averaged about 4 million births per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remains the largest population increase in American his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aby Boom generation would go on to become profoundly influential in American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by Boomers are beginning to retire…your generation will pay for their retirement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state Highway 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438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1956, President Eisenhower signs the Interstate Highway 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s 41,000 miles of high-speed highways modeled after Germany’s autobah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s main objective was to ease transportation of military weaponry and troops in case of enemy att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placed a patchwork of state and federal highw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i-5.bmp"/>
          <p:cNvPicPr/>
          <p:nvPr/>
        </p:nvPicPr>
        <p:blipFill>
          <a:blip r:embed="rId1"/>
          <a:stretch/>
        </p:blipFill>
        <p:spPr>
          <a:xfrm>
            <a:off x="3657600" y="9144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states Allow For Faster Commu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3" descr="interstate.jpg"/>
          <p:cNvPicPr/>
          <p:nvPr/>
        </p:nvPicPr>
        <p:blipFill>
          <a:blip r:embed="rId1"/>
          <a:stretch/>
        </p:blipFill>
        <p:spPr>
          <a:xfrm>
            <a:off x="4572000" y="2133720"/>
            <a:ext cx="4432320" cy="3530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twolane.bmp"/>
          <p:cNvPicPr/>
          <p:nvPr/>
        </p:nvPicPr>
        <p:blipFill>
          <a:blip r:embed="rId2"/>
          <a:stretch/>
        </p:blipFill>
        <p:spPr>
          <a:xfrm>
            <a:off x="0" y="2119320"/>
            <a:ext cx="44956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Theor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rush1.bmp"/>
          <p:cNvPicPr/>
          <p:nvPr/>
        </p:nvPicPr>
        <p:blipFill>
          <a:blip r:embed="rId1"/>
          <a:stretch/>
        </p:blipFill>
        <p:spPr>
          <a:xfrm>
            <a:off x="304920" y="1523880"/>
            <a:ext cx="3892320" cy="2590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rush2.bmp"/>
          <p:cNvPicPr/>
          <p:nvPr/>
        </p:nvPicPr>
        <p:blipFill>
          <a:blip r:embed="rId2"/>
          <a:stretch/>
        </p:blipFill>
        <p:spPr>
          <a:xfrm>
            <a:off x="4191120" y="3757680"/>
            <a:ext cx="430848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wth of the Sunb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of the new suburban growth took place in the southern tier of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sunbelt.bmp"/>
          <p:cNvPicPr/>
          <p:nvPr/>
        </p:nvPicPr>
        <p:blipFill>
          <a:blip r:embed="rId1"/>
          <a:stretch/>
        </p:blipFill>
        <p:spPr>
          <a:xfrm>
            <a:off x="1981080" y="2995560"/>
            <a:ext cx="54104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uburban Growth in the Sunb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ard County, Florida (Suburban Miam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0 pop: 83,93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60 pop: 333,9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rant County, Texas (Suburban Dall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0 pop: 361,25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60 pop: 538,4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nge County, California (Suburban L.A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0 pop: 216,22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60 pop: 703,9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ult of Shift to Suburbs and Sunbel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s in population lead to greater political power for the South, the West, and Suburba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new political clout came at the expense of the Northeast, the Midwest, and older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led to Urban Decay in many American C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3" descr="decay1.bmp"/>
          <p:cNvPicPr/>
          <p:nvPr/>
        </p:nvPicPr>
        <p:blipFill>
          <a:blip r:embed="rId1"/>
          <a:stretch/>
        </p:blipFill>
        <p:spPr>
          <a:xfrm>
            <a:off x="1523880" y="1835280"/>
            <a:ext cx="5945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all important Megadeth endorsemen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megadeth.jpg"/>
          <p:cNvPicPr/>
          <p:nvPr/>
        </p:nvPicPr>
        <p:blipFill>
          <a:blip r:embed="rId1"/>
          <a:stretch/>
        </p:blipFill>
        <p:spPr>
          <a:xfrm>
            <a:off x="609480" y="1905120"/>
            <a:ext cx="3353040" cy="373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mustaine.jpg"/>
          <p:cNvPicPr/>
          <p:nvPr/>
        </p:nvPicPr>
        <p:blipFill>
          <a:blip r:embed="rId2"/>
          <a:stretch/>
        </p:blipFill>
        <p:spPr>
          <a:xfrm>
            <a:off x="5105520" y="1905120"/>
            <a:ext cx="3019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3" descr="decay2.bmp"/>
          <p:cNvPicPr/>
          <p:nvPr/>
        </p:nvPicPr>
        <p:blipFill>
          <a:blip r:embed="rId1"/>
          <a:stretch/>
        </p:blipFill>
        <p:spPr>
          <a:xfrm>
            <a:off x="0" y="685800"/>
            <a:ext cx="457848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decay3.bmp"/>
          <p:cNvPicPr/>
          <p:nvPr/>
        </p:nvPicPr>
        <p:blipFill>
          <a:blip r:embed="rId2"/>
          <a:stretch/>
        </p:blipFill>
        <p:spPr>
          <a:xfrm>
            <a:off x="4648320" y="3200400"/>
            <a:ext cx="4384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3" descr="decay4.bmp"/>
          <p:cNvPicPr/>
          <p:nvPr/>
        </p:nvPicPr>
        <p:blipFill>
          <a:blip r:embed="rId1"/>
          <a:stretch/>
        </p:blipFill>
        <p:spPr>
          <a:xfrm>
            <a:off x="304920" y="57456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decay5.jpg"/>
          <p:cNvPicPr/>
          <p:nvPr/>
        </p:nvPicPr>
        <p:blipFill>
          <a:blip r:embed="rId2"/>
          <a:stretch/>
        </p:blipFill>
        <p:spPr>
          <a:xfrm>
            <a:off x="228600" y="3581280"/>
            <a:ext cx="3886200" cy="2911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ecay6.jpg"/>
          <p:cNvPicPr/>
          <p:nvPr/>
        </p:nvPicPr>
        <p:blipFill>
          <a:blip r:embed="rId3"/>
          <a:stretch/>
        </p:blipFill>
        <p:spPr>
          <a:xfrm>
            <a:off x="4114800" y="1677960"/>
            <a:ext cx="49230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 that to the Subu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3" descr="50suburb1.bmp"/>
          <p:cNvPicPr/>
          <p:nvPr/>
        </p:nvPicPr>
        <p:blipFill>
          <a:blip r:embed="rId1"/>
          <a:stretch/>
        </p:blipFill>
        <p:spPr>
          <a:xfrm>
            <a:off x="1752480" y="1866960"/>
            <a:ext cx="57578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3" descr="50suburb2.jpg"/>
          <p:cNvPicPr/>
          <p:nvPr/>
        </p:nvPicPr>
        <p:blipFill>
          <a:blip r:embed="rId1"/>
          <a:stretch/>
        </p:blipFill>
        <p:spPr>
          <a:xfrm>
            <a:off x="2209680" y="457200"/>
            <a:ext cx="4492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3" descr="50suburb3.jpg"/>
          <p:cNvPicPr/>
          <p:nvPr/>
        </p:nvPicPr>
        <p:blipFill>
          <a:blip r:embed="rId1"/>
          <a:stretch/>
        </p:blipFill>
        <p:spPr>
          <a:xfrm>
            <a:off x="304920" y="380880"/>
            <a:ext cx="5097240" cy="32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50suburb4.jpg"/>
          <p:cNvPicPr/>
          <p:nvPr/>
        </p:nvPicPr>
        <p:blipFill>
          <a:blip r:embed="rId2"/>
          <a:stretch/>
        </p:blipFill>
        <p:spPr>
          <a:xfrm>
            <a:off x="3962520" y="3809880"/>
            <a:ext cx="503856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ould You Rather 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3" descr="50suburb5.bmp"/>
          <p:cNvPicPr/>
          <p:nvPr/>
        </p:nvPicPr>
        <p:blipFill>
          <a:blip r:embed="rId1"/>
          <a:stretch/>
        </p:blipFill>
        <p:spPr>
          <a:xfrm>
            <a:off x="1981080" y="1523880"/>
            <a:ext cx="49532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First and Most Famous Suburban Developments were built by Bill Levit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3" descr="50suburb6.bmp"/>
          <p:cNvPicPr/>
          <p:nvPr/>
        </p:nvPicPr>
        <p:blipFill>
          <a:blip r:embed="rId1"/>
          <a:stretch/>
        </p:blipFill>
        <p:spPr>
          <a:xfrm>
            <a:off x="3657600" y="3416400"/>
            <a:ext cx="4714920" cy="344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50suburb7.jpg"/>
          <p:cNvPicPr/>
          <p:nvPr/>
        </p:nvPicPr>
        <p:blipFill>
          <a:blip r:embed="rId2"/>
          <a:stretch/>
        </p:blipFill>
        <p:spPr>
          <a:xfrm>
            <a:off x="304920" y="1587600"/>
            <a:ext cx="3333600" cy="45082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733920" y="19810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named his planned communities Levitt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gre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ct or practice of separating or isol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Jure Segre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actice of segregation that has the force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businesses in the South were segregated legally, that is, blacks were not legally allowed in some establish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it like this “jure” sounds like jury, which meets in a courtroom where attorney practice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Facto Segre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actice of segregation that is not mandated by law, but happens in re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it like this: “facto” sounds like fact…this type of segregation doesn’t happen because of the law but it is still a f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ck Santoru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mustaine3.jpg"/>
          <p:cNvPicPr/>
          <p:nvPr/>
        </p:nvPicPr>
        <p:blipFill>
          <a:blip r:embed="rId1"/>
          <a:stretch/>
        </p:blipFill>
        <p:spPr>
          <a:xfrm>
            <a:off x="4913280" y="1676520"/>
            <a:ext cx="3878280" cy="258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santorumsweatervest.jpg"/>
          <p:cNvPicPr/>
          <p:nvPr/>
        </p:nvPicPr>
        <p:blipFill>
          <a:blip r:embed="rId2"/>
          <a:stretch/>
        </p:blipFill>
        <p:spPr>
          <a:xfrm>
            <a:off x="228600" y="1371600"/>
            <a:ext cx="41911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So, what have we learned today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Quick Quiz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was the name of the bill that guaranteed mortgages to returning serviceme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e G.I. Bil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 or False: After World War II, millions of returning servicemen were unable to find jobs because the country sunk into another Great Depression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al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name of the most famous of the mass-produced postwar suburb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Levittow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wo reasons for the growth of the suburb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able Ans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terans take advantage of GI Bill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on in the number of cars on the r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age of the Interstate Highway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anted “a space of their ow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region of the country saw the most explosive growth after the w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 out a Piece of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e Sunbel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generation of children born in the two decades following World War II known 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aby Boom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“de jure segregation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gregation by la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“de facto segregation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gregation in fac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name for individual units of a chain of businesses that are independently owned by individu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chise busin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’s your favorite history teac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think that the song “Little Boxes” is about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 it describing something or somewhere specific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think “ticky tacky” mea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ord the first thoughts that come to mind when you think of the following term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Inner City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ord the first thoughts that come to mind when you think of the following term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Suburb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ar Is Over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 million Americans return home from overs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s are ecst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warkiss.jpg"/>
          <p:cNvPicPr/>
          <p:nvPr/>
        </p:nvPicPr>
        <p:blipFill>
          <a:blip r:embed="rId1"/>
          <a:stretch/>
        </p:blipFill>
        <p:spPr>
          <a:xfrm>
            <a:off x="2971800" y="3251160"/>
            <a:ext cx="32004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07:33Z</dcterms:created>
  <dc:creator>Rob</dc:creator>
  <dc:description/>
  <dc:language>en-US</dc:language>
  <cp:lastModifiedBy>Rob</cp:lastModifiedBy>
  <dcterms:modified xsi:type="dcterms:W3CDTF">2012-02-22T10:57:55Z</dcterms:modified>
  <cp:revision>36</cp:revision>
  <dc:subject/>
  <dc:title>Take out a Piece of Paper</dc:title>
</cp:coreProperties>
</file>